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AEF-3DD4-4808-B5CB-862AFA0E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9F0-386E-467F-A834-267F8684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785-DAA9-48F2-AB7E-911596B8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86A-BACC-4C73-8BD2-AC4B6F29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C5FC-2FEF-46ED-B1CF-5B4BB0F7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1CCD-F2CE-4321-8304-81E7F869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8B95-8DEA-40B6-882C-D9B251D4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F0E4-F4F8-4B39-B14E-AEA7649F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ECF8-3C5A-46AF-A7DA-6F606E51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B77C-E149-4C3F-85BB-76A5088D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78F5-833E-40A5-880A-12AFBCA9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E1A-0144-482D-8F7D-E64E09CE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4290-75DD-47F2-A2D0-C5134774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0B5E-E30D-4E29-9ABD-4698427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3198-A3B6-4044-919A-A37BC8F7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081D-85CB-4CB5-AD68-44D2ABC3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318F-4139-438E-B2B4-0AD8FCF7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222-39B4-41D9-BE04-CEC08E90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83C-35BD-4A7E-BE1D-9A837DE3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91A-90C3-4774-8222-881CFAF2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3C1-DE2C-4282-8521-AA15099F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864-CAD9-4B67-8C21-743F5B2E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962-1CAF-4CD1-A33E-CD6CE18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C08-3AE3-43C6-A82D-C39AB149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7259-8CE9-4667-8A25-2931B9E2ECF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390F-3D86-4530-90DE-354C1F0FE38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946C-6FFD-4539-B028-27D0A85D0E7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BDF4-7C5D-4C44-883A-70C70871BBD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n fait les cours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Sur les rues française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7c9f"/>
                </a:solidFill>
                <a:latin typeface="News Gothic MT"/>
              </a:rPr>
              <a:t>On va à l’épicerie pour acheter des aliments fondimentales: de la farine, du sucre, du sel, du poivre, le riz, les céréales, etc.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Content Placeholder 3" descr="l'epicerie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Voilà la poissonnerie où on vend du poisson et des fruits de mer.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9" name="Content Placeholder 3" descr="poissonnerie pepone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Les français adorent leurs fromages!  Voilà la fromagérie.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Content Placeholder 3" descr="Fromagerie-Caseus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n peut acheter des </a:t>
            </a: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produits de lait et des vins à la crémérie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3" name="Content Placeholder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À la confiserie on vend des bonbons!!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Content Placeholder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4736880" cy="255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565520" y="378144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1031760" y="4314960"/>
            <a:ext cx="2997360" cy="224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5438880" y="1444680"/>
            <a:ext cx="3152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ien sûr qu’il y a des autres lieux qu’il faut visiter!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1840" y="1512720"/>
            <a:ext cx="80420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 café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 taba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347920" y="16002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253120" y="1600200"/>
            <a:ext cx="3174840" cy="2344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2341440" y="3679920"/>
            <a:ext cx="2660760" cy="14763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6686640" y="428796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La Poste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5362560" y="4735440"/>
            <a:ext cx="2490840" cy="18669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8"/>
          <p:cNvSpPr/>
          <p:nvPr/>
        </p:nvSpPr>
        <p:spPr>
          <a:xfrm>
            <a:off x="3838320" y="58402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Les musées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ntrons vite à Paris!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8" name="Content Placeholder 7" descr=""/>
          <p:cNvPicPr/>
          <p:nvPr/>
        </p:nvPicPr>
        <p:blipFill>
          <a:blip r:embed="rId1"/>
          <a:stretch/>
        </p:blipFill>
        <p:spPr>
          <a:xfrm>
            <a:off x="1441440" y="1584360"/>
            <a:ext cx="6616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 France, on fait les courses dans les petits magasins.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rement, on visite le supermarché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aque magasin a son spécialité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n fait les courses plusieurs fois par semain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llons visiter une rue française typiqu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ienvenue à Montmartre et au Sacré Cœu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Voilà la place du tert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vec les artistes. . 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1762200" y="2349360"/>
            <a:ext cx="5635440" cy="3195720"/>
          </a:xfrm>
          <a:prstGeom prst="rect">
            <a:avLst/>
          </a:prstGeom>
          <a:ln w="0">
            <a:noFill/>
          </a:ln>
        </p:spPr>
      </p:pic>
      <p:sp>
        <p:nvSpPr>
          <p:cNvPr id="92" name="TextBox 14"/>
          <p:cNvSpPr/>
          <p:nvPr/>
        </p:nvSpPr>
        <p:spPr>
          <a:xfrm>
            <a:off x="4973760" y="5810400"/>
            <a:ext cx="35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. . . et les cafés magnifiques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À la boulangerie, on vend du pain et des croissan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4" name="Content Placeholder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À la pâtissérie on vend des tartes et des autres pâtisséries délicieus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6" name="Content Placeholder 4" descr=""/>
          <p:cNvPicPr/>
          <p:nvPr/>
        </p:nvPicPr>
        <p:blipFill>
          <a:blip r:embed="rId1"/>
          <a:stretch/>
        </p:blipFill>
        <p:spPr>
          <a:xfrm>
            <a:off x="3100320" y="3600360"/>
            <a:ext cx="5388120" cy="2909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7640" y="1704960"/>
            <a:ext cx="419724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Voilà le marché où on vend des fruits et des légumes. Quels types voyez-vous?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9" name="Content Placeholder 5" descr="Marche Butte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n vend de la viande à la </a:t>
            </a: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boucherie.  Lisez au-dessous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1" name="Content Placeholder 3" descr="Boucherie 18e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À la charcuterie on vend du saucisson et du jamb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4838760" cy="3174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5388120" y="3340080"/>
            <a:ext cx="31240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3:14:01Z</dcterms:created>
  <dc:creator>John Chapman</dc:creator>
  <dc:description/>
  <dc:language>en-US</dc:language>
  <cp:lastModifiedBy>John Chapman</cp:lastModifiedBy>
  <dcterms:modified xsi:type="dcterms:W3CDTF">2012-03-28T01:31:33Z</dcterms:modified>
  <cp:revision>16</cp:revision>
  <dc:subject/>
  <dc:title>On fait les courses</dc:title>
</cp:coreProperties>
</file>